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038-F9C4-4BF4-B845-41D7B4D6B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3D5-4F96-4B97-BA12-2512D6FFB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19F-33DC-43EF-9A4A-539CE825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634-D0A8-41FE-B46D-D7DCAB88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C60-B703-4BDE-BF8F-EA0570F2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EAE-3D0C-485F-A2BB-CD84BBC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9FF-8294-471F-BEE8-932AF73D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014-3805-4B20-83B8-D30BB22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E2E-9196-4C09-B24C-4916FEC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182-B93D-4224-8961-2F128C5B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803-52CF-4F8F-BFD1-9BB86E8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356-C64D-429B-ADB2-8D6E8C8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133-0F20-49A6-8164-3D4C2E6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004-45F3-4965-9969-1F9ECEB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7EEB-BEED-4719-854A-54BCF6257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просы обеспечения ЭМС в условиях планирования и проведения мероприятий по импортозамещению микропроцессорных устройств РЗА. Сервисная замена терминалов в шкафах на энергообъе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В.Ф.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ов Ю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оциация «ИнТЭК», г. Чебокс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чик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ров Юрий Алекс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95280" y="428760"/>
            <a:ext cx="822960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3840" y="1052640"/>
            <a:ext cx="8772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er\Desktop\DSC_8783 - копия - копия.JPG"/>
          <p:cNvPicPr/>
          <p:nvPr/>
        </p:nvPicPr>
        <p:blipFill>
          <a:blip r:embed="rId1"/>
          <a:stretch/>
        </p:blipFill>
        <p:spPr>
          <a:xfrm>
            <a:off x="395280" y="765000"/>
            <a:ext cx="8643960" cy="5724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25000"/>
            <a:ext cx="4827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Благодарим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ейная защита и противоаварийная автоматика (РЗА и ПА) являются важнейшей системой в производстве, распределении и потреблении электроэнергии. Их действия направлены на обеспечение устойчивой и надёжной работы энергообъектов на протяжении длительного периода эксплуатации в условиях промышленной электромагнитной обстановки. По последствиям, обусловленным воздействием помех, функции систем РЗА являются наиболее критичными. Их точность и оперативность не должны подвергаться нарушениям, приводящим к потере защитных функций и созданию критических ситуаций, задержкам и излишним (ложным) действиям, потере эксплуатационной последовательности информации, регистрируемой с целью анализа нарушений. Поэтому для систем РЗА выполнение требований полной устойчивости к помехам и наличие соответствующего запаса помехоустойчивости являются обязательными условиями соответствия требованиям электромагнитной совместимости (ЭМ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. Нормативные документы, определяющие требования ЭМС к  шкафам РЗА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РФ и зарубежные стандарты  на ЭМС для оборудования, используемого в обстановке электростанции и подстанции гармонизированы и ряд действующих сегодня основополагающих ГОСТов в области ЭМС идентичны ранее выпущенным зарубежным стандартам. Поэтому в рамках практики использования оборудования на электростанциях и подстанциях в Группе “Россети” эксплуатируемое оборудование соответствует действующим государственным и отраслевым стандартам. Все без исключения стандарты обязательны к применен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62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61000-6-5 выделяет в испытуемом изделии следующие порты: порты ввода и вывода электропитания переменного тока, порты ввода и вывода электропитания постоянного тока, порты ввода и вывода сигналов управления и сигнализации, порты линий связи, порты функционального и защитного заземления и порт корпуса и регламентирует воздействия различных видов помех на указанные порт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иналах и шкафах Р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ми являю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ные разъемы и клем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при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чи помех на испытуемые устройства (шкафы РЗА) напольного расположения методы, изложенные в ГОСТах, предписывают использование определенной конфигурации испытательной установки:  размещение испытуемого устройства на пластине заземления, использование безэховой камеры и широкой номенклатуры испытательного оборудования и средств измерения. Ниже приведены  примеры конфигурации испытательной установки регламентируемые рядом ГО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2232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2. Объем  и условия проведения испытаний  на ЭМС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о ГОСТ 61000-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Yury\Desktop\Совещание 24042024\IMG_20240423_164727.jpg"/>
          <p:cNvPicPr/>
          <p:nvPr/>
        </p:nvPicPr>
        <p:blipFill>
          <a:blip r:embed="rId1"/>
          <a:stretch/>
        </p:blipFill>
        <p:spPr>
          <a:xfrm>
            <a:off x="146160" y="3789360"/>
            <a:ext cx="4457520" cy="293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SCF1978"/>
          <p:cNvPicPr/>
          <p:nvPr/>
        </p:nvPicPr>
        <p:blipFill>
          <a:blip r:embed="rId2"/>
          <a:stretch/>
        </p:blipFill>
        <p:spPr>
          <a:xfrm>
            <a:off x="4809960" y="4653000"/>
            <a:ext cx="4235760" cy="219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17_перед"/>
          <p:cNvPicPr/>
          <p:nvPr/>
        </p:nvPicPr>
        <p:blipFill>
          <a:blip r:embed="rId3"/>
          <a:stretch/>
        </p:blipFill>
        <p:spPr>
          <a:xfrm>
            <a:off x="6516720" y="3213000"/>
            <a:ext cx="965160" cy="13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861840" y="692280"/>
            <a:ext cx="772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5960" y="771480"/>
            <a:ext cx="8605800" cy="63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23840" y="0"/>
            <a:ext cx="4516560" cy="684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4433760" y="228600"/>
            <a:ext cx="46944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8074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3. Правовые сложности  замены терминалов в шкафах  на энергообъекте 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пытания на ЭМС терминала РЗА и шкафа РЗА, использующего терминал, могут существенно отличаться показателями помехоустойчивости и помехоэмиссии,  особенно в части импульсных радиочастотных помех. Это обусловлено влиянием распределенных параметров: -емкостями, индуктивностями и взаимо индуктивностями проводных   жгутов и самой конструкцией  шкафа, а также влиянием распределенных параметров устанавливаемых в шкафа дополнительных компонентов (преобразователями напряжения, фильтрами). В свою очередь, практикуемый фактор минимизации стоимости оборудования также способствует снижению запаса помехоустойчивости и помехоэмисс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риводит к тому, что терминал, прошедший успешные испытания на ЭМС, не проходит испытания по ряду ГОСТов в составе шкафа РЗА (см. пример на рис.2). Но для ряда ГОСТов имеет место улучшение помехоустойчивости и помехоэмиссии (таблица 3 иллюстрирует пониженную  помехоэмиссию шкафа РЗА по отношению к эмиссии помех терминалом, встроенным в шкаф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и замене терминала в шкафу РЗА на энергообъекте в эксплуатации оказывается изделие, для которого не проведены испытания на ЭМС: соответственно отсутствуют протоколы на ЭМС, не определены помехоустойчивость  и помехоэмиссия вновь собранного шкафа РЗА, не установлено соответствие критериям качества функционирования в условиях электромагнитных поме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яде случаев это может привести к существенному сокращению сроков эксплуатации компонентов шкафа, которые сразу выявляются при испытаниях в испытательной лаборатори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-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16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79280" y="2516040"/>
            <a:ext cx="18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-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79280" y="51436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212760" y="195120"/>
            <a:ext cx="89503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59800" cy="54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едложение рамках сервисного импортозамещения терминалов в ранее установленных шкафах РЗ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редлагают перенести испытания на ЭМС в испытательные лаборатор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тировать на подстанциях Группы «Россети» по одному шкафу РЗА разного типа , укомплектованного изготовленными за рубежом терминалами, подлежащими замен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шкафы РЗА определенного типа за различными ЭМС  лабораториями по принципу “один тип шкафа РЗА испытывается в одной аккредитованной ЭМС лаборатории”, желательно специализирующейся на испытаниях продукции для электроэнергетики; провести испытания шкафа одного типа для всех производителей терминалов по созданному Группой «Россети» списку производителей терминал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ся сохранить жгут и конструкцию корпуса шкафа, но установить терминал российского производителя и, если необходимо, дополнительные компоненты: сетевые фильтры, например. Провести кроме предварительных финальные испытания на ЭМС, протоколы по которым внести во ФГИС и передать заказчикам.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49:23Z</dcterms:created>
  <dc:creator>ЭКРА</dc:creator>
  <dc:description/>
  <dc:language>en-US</dc:language>
  <cp:lastModifiedBy>Yury</cp:lastModifiedBy>
  <cp:lastPrinted>2024-04-23T17:47:38Z</cp:lastPrinted>
  <dcterms:modified xsi:type="dcterms:W3CDTF">2024-04-23T17:50:53Z</dcterms:modified>
  <cp:revision>283</cp:revision>
  <dc:subject/>
  <dc:title>Слайд 1</dc:title>
</cp:coreProperties>
</file>